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48A5-F043-4F99-8A18-A612874DA5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6D4-853C-4684-AA78-67A18986C30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2F03-8901-4AA1-BB35-390CA55A92E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F940-6042-4925-BD44-11DBC23320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EAC-821A-4ADC-AC35-0AA7FA36A2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AD1-F538-436B-AEDD-8281D7A0EB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4DD5-96ED-47A9-892B-8AD33A0520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10FE-B093-4049-AEA2-9C3F05A960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3FC-18FD-435C-BA6F-8CA5DE8DF2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CBC-7D1E-4EFD-B2D6-11A96678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B40-C981-404A-A010-9B313E2A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4AB-C730-4AC9-A5D9-297A814D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BD0-86F2-4089-936D-BF5947FA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41E5-E3AD-4BB4-B26E-C9D1C278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C1A9-E8DE-4903-99D0-E9D2BAA6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4928-0F4A-46E8-A025-AE1F8554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FE5D-A72E-4595-A6B6-C1616D88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BDCB-854F-41B7-8CF3-3C30D0A6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4118-8195-4508-AC27-2B90EAFF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BEF-ABEA-473D-9F75-A5FAFDF1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FDB-560C-4D74-A49E-D862980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5DE6-1736-4CE9-B677-DD6B905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54AD-7363-4F98-B118-032F19C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73C8-2281-40A6-9B61-DDEDAA43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24E6-F9F7-430B-A052-FCDB82E0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FA6-0381-446F-B75A-0603D181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F459-1A59-4B84-979D-568920D4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C4DB-5EAD-4247-8EC4-09060527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36D9-B337-4516-9F9F-DE7B18C8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280D-EF05-4CE9-8036-F2F63BA6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4C33-172F-406C-BD93-B66A541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7D5-42A3-4D1E-9121-83807533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F651-ECF3-4C22-AC33-1598173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EB8B-2AF9-483C-9AE2-A735BE6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29CA-FEAE-44CC-94AC-B37FBDC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7DF9-49DF-421C-9075-BE6A21E0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8015-7E02-4432-BC25-045A7F1E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8DD0-B799-416A-8FA2-63A4DFCF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1BD1-9BB0-445E-B237-62BF911A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4D59-47AB-4F05-8DDF-7AD6CE66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0853-791D-4AF9-A7A1-3C178E47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DFA8-DF98-4C28-A9C6-1E3AA46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E77-0301-4BD3-A62F-72D7C65E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AB80-7CF6-477E-A0BA-56E73C31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791C-CBE5-4373-AC73-B6CCE621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F3FC-FA19-4495-A489-04208B58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8F1F-E09A-4978-9EEB-73518A5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5377-5522-4636-8A80-C77AA94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6FEA-3E2F-490A-AB89-0C3EFBE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A930-3F80-4DD3-A4D7-1F8B249B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90B7-E7F2-4093-AF0D-64BCCBE9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9837-48A5-4BB0-A17C-89A0C600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5782-7150-44B5-B650-AEF22BE7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42E-B341-4B9E-9BB3-10E9675C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15ACC-A2F4-46EC-A78D-58F8E4D7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D2285-0B59-4428-8189-1CE486A5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8FD6-59B5-4D36-AA54-80A89BB9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D326-20C1-4187-B9F5-C564DEB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23D3-3058-4DD8-8C81-670AC8E4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B3E1-1176-4C42-91CB-2778599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8139-4C91-41C2-960C-13306F9A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BE11D-F43A-4670-B127-8195767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B6DC-ADE2-48A8-9E16-DA726501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ADC0-E9B4-4733-9815-18DA0725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9AB-61E0-4F14-BB32-F11C2F6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4B60-8A41-42D4-B9EA-B5D8FAC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6723-C911-4CD8-BDEE-F285CC94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CF85-2179-4B85-8927-8B5F8434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2BBC3-C4AC-4897-A2EF-DCD6314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1A29-72C9-460D-A04F-B7B3E621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D10B-EB6A-4C6E-9ECA-5B9EA11C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E65A-BEC6-4614-9B78-34A5406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5EC8-4B19-4ECD-876F-B3FDCB9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B3140-A70A-4BB6-843F-C3BC727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5EFC2-4DF6-4C16-A63B-35368DB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E83-D071-4532-BD73-5963F29C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2098-786C-440B-B694-96166873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EC8A8-C2BA-4A82-977C-F0D41544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4C99B-5651-45A9-B764-1E8BA6FD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092-35D8-4592-B5B4-44B27B1D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D7B-3938-4CED-8966-473B26B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BA9-EEAB-4F50-9DBB-2F86AA61E40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A60-CBBC-49F6-B436-EA86F889B20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B3D6-6209-4E20-8C59-EF1710969F6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2F6C-3A6F-45D3-9EAC-6C55F96066F4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C5BD-63F2-4823-A7F8-8D64EE730B5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297-C70B-4630-A9DD-C932F001DC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04F-CC7A-429D-9AA1-7B13AED3290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EF4C-6220-4386-B9D0-6B5708DB9F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8473-BCEE-480F-9D79-65E4201D9D0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E5F1-BF4E-4D6F-8EB7-3AC86ED7C0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D4CB-6D87-41B3-B9B9-6CE6A263C10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79A2-F1F7-4B1D-A0AF-2D5A6510DF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BRIL/20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mai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1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692280"/>
            <a:ext cx="1219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2320" y="6496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22320" y="1411200"/>
            <a:ext cx="12169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64882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0" y="1450800"/>
            <a:ext cx="1219212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36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47520" y="1346040"/>
            <a:ext cx="1214460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7520" y="648828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7520" y="1486080"/>
            <a:ext cx="1214460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abril/2018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47520" y="648828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47520" y="1700280"/>
            <a:ext cx="1214460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52560" y="1341360"/>
            <a:ext cx="121395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413000"/>
            <a:ext cx="12192120" cy="50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6416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343160"/>
            <a:ext cx="1214424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abril/2017, março/2018 e abril/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20520" y="6492960"/>
            <a:ext cx="88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47520" y="1125360"/>
            <a:ext cx="120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abril de 2018, a quantidade de benefícios previdenciários e acidentários emitidos pela Previdência aumentou 31,5%, passando de 22,8 milhões para 29,9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8 a 2017 (dezembro), 2018 (abr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8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680" y="1582560"/>
            <a:ext cx="12187440" cy="49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1 a 2018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abril de cada ano – Em R$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16532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71,88, na média de janeiro e abril de 2018, o que representou um crescimento de 10,5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0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3068640" y="5157720"/>
            <a:ext cx="34941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960" y="2349360"/>
            <a:ext cx="3527280" cy="2743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442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6334200"/>
            <a:ext cx="1214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0% dos benefícios pagos pelo INSS em abril/2018 possuíam o valor de até um salário mínimo, o que representa um contingente de 23,2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abril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520" y="1413000"/>
            <a:ext cx="12096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bril/2017, março/2018 e abril/2018, Acumulado Janeiro a abril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648828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0" y="1197000"/>
            <a:ext cx="121921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10 a 2018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abril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92240" y="64245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0" y="1177920"/>
            <a:ext cx="121921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-15840" y="1413000"/>
            <a:ext cx="1220796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8160" y="1341360"/>
            <a:ext cx="12106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7640" y="635328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20520" y="1557360"/>
            <a:ext cx="121716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3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473120"/>
            <a:ext cx="121921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7640" y="646416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5-30T21:35:08Z</dcterms:modified>
  <cp:revision>418</cp:revision>
  <dc:subject/>
  <dc:title>Demografia</dc:title>
</cp:coreProperties>
</file>